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270D-13ED-4B2E-9FF9-D738A85F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61FB-F0CE-45C0-B1D6-E2BEB120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BC55-20DF-47A1-BEA5-96467EB2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AB6E-14D7-45F6-98B5-94B0FD37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34B0-F7F4-448B-BF15-45938724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F74D-EAE6-40AB-A04E-B59C4651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A8D7-D9F6-4AE8-96A8-7DB0B006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1E04-F14C-4F26-9468-E0E2E4B1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D5C2-C06E-4937-9922-EA3F7720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D6E2-B336-4DC3-B173-DD8D012D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096D-E1C8-4E9A-9DF4-CEEC9C99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5D2C-914E-4CF6-925B-CC8605B4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051C-3C2E-4EA4-B5C6-4DA0172D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F78C-EFF9-42C7-B25A-76BCFB8A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7E4A-CD16-471D-BBCD-B7061B95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0050-4B8D-4AE2-B5A3-B9B21D1E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4ACA-FB77-460E-A2BC-87D5F903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400F4-A1F6-4526-A1FD-9FB82480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6503B-BF1B-4476-9005-9DAF82A3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80608-6424-4A3E-99BA-9B7D39E2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32310-C5D6-4D53-83A8-4615F330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24111-E6A2-4A3C-9FF8-4A988969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235D-0BB3-45E6-BC4C-646127E1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B73AB-8D26-4D6F-8F09-FEAFF21F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412DB-D571-4E05-B1DB-5DF44ECB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17422-BAE6-46EF-B15C-5E6B8C3C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7B6D6-CC54-4CDC-98D4-DA147F81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F1FE0-D009-4A9A-8CC8-EEFA0440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5D717-C22E-479C-959F-2D147834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6087D-A3E7-400F-9E99-411AD100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97451-FF23-482A-94FA-0D143785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8D914-EC68-4B45-AE64-EEBE03EC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F9079-0BD5-4220-8A9D-2A1D6A7E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4613-4B3C-46BD-92D1-48A50455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AA9B8-7F6B-49B0-8D7B-C0072840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D08E1-76D5-482D-8F56-FFE61FA7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AA83E-F726-4D18-AC83-7BB25D58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F40F7-E65A-4AD0-8CE6-A307CA7B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00C66-E230-4066-8D48-AB3F051A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65BE4-EAC2-40C7-AC11-3CF17945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47E56-6314-4EDD-B513-959A987B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B6E7D-AD8E-4F7F-A0A6-CDF5CAE8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2A4BE-5A58-4827-A1D5-A3925283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9F442-4C05-46E5-800B-6B7DECDD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80BA-844C-4D73-9C43-A0F50672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66523-9253-4979-9685-3C023AE5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4EE92-53A3-43E6-B84E-E6C430F3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2F7F0-89E8-4353-AC17-E847B756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18BA7-A078-475C-B384-72B9D3BB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6D14E-6A3C-4353-BB80-EEB928CF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264A8-3392-478B-A0A7-B586D51E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0BFA9-D7D4-4952-913B-5DC98483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BF6C7-3451-4161-9868-25087685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984B2-6087-4078-B9F8-E60BCEAA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56F09-F2FA-442D-B66B-A881252E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C1CC-3FC9-4152-B075-41D82C8E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F67AA-371B-4C12-8684-B0D69650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56438-7CF8-48DE-8911-DE34C1DB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F2457-A61B-4FAE-9196-566CEBF8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655DE-EFDD-46B7-A286-584E41B5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654BF-622A-446E-9BF8-CE3B842D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6D19D-7774-4CB2-86C1-2ED24E55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20123-77BD-4CB6-AC6B-E232AB28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B1837-F327-454B-BC1C-9AD567C4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CB96A-1DFF-4196-B5F2-8335AA18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56940-B63F-4466-800B-99BDFC03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A46A-F63B-4E3F-BE3E-0BEA3162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8E4A0-51C0-45FA-8150-22CA1A96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26465-4761-4D49-9548-2F63AB7E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8D83B-5AFF-4988-9322-8D74F8E7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0C72B-0506-4B98-88DD-625F5996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65F62-C933-482B-BC1F-8AE36619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EEA3E-B6B2-40F3-9C35-996FECAA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1068E-88E1-411A-B65C-9671C839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A7D40-E12B-4999-BFCA-E68B2A9F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640D4-C0CF-4818-A0DB-26C9AE98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D8404-59C7-474C-BA4F-0C46D06C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59ED-11A2-420F-9669-83191C4A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18732-0F36-40C5-8649-CD3D5AFE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40BD4-6D4A-453A-814D-DB696E45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07B32-DE10-498A-8DE1-D5B97324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4E0E4-CC23-48B6-B4A6-B092E51D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0AE5F-F33B-41FD-863D-8E982AB5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7F10E-EAF2-4F38-8E72-E548920D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EAD95-9FCB-4892-9483-C777EE3A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E2C29-CFE1-47FF-BF52-4009DF07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C05B6-79F0-486E-A726-DE97398D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66A8B-265B-44B7-8040-2918ECE8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0AFC-80C5-4D66-A48F-9CE63AF0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613E5-8C78-4CA9-ADB9-E8AEB0A0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73A25-2BB8-46F7-9707-0C5680A4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84DA8-28F0-4850-ABB5-18EA129B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E14E4-76AC-45E9-A215-1EFBBF87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27C33-3DC7-448C-895C-4824E523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4DEC8-7155-4CF4-A9E3-84FD1B4D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3AA03-66F5-4C26-886F-DFD7EF427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2A9E-893E-468A-8271-E5DA54CE3BC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9299-99A2-47BD-930B-789646262EF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57A2-1540-4425-A4F9-0CDC55FBEFF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DA32-C3BB-45AF-888B-FBE02FA1038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64A1-1303-4729-B413-A6AF0E16663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88B1-8010-4CCD-8B5C-0FFC586DB34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AEE3-46EB-4AF6-8E27-DFB9EA28755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CE6F-9D1F-449F-8327-CA86599468A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69960" y="1749600"/>
            <a:ext cx="81025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195264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band represents a strand of DNA, of a specific leng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bands furthest down are the smalle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ls are normally run to compare a sample of DNA to a known sample, cut with the same enzy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the bands line up, it is likely that the samples are the sa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very useful in DNA fingerprinting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ter discovering DNA was the carrier of genetic info, it became apparent that control over its mechanisms would be essenti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have ways of isolating DNA, determining the order of its nucleotides, and can even insert of piece of DNA from one organism to anot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get at DNA, we have to remove the two membranes that protect 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ell membrane and nuclear envelop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are made of phospholipid bilay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tergents are used to dissolve the lipids to expose the genetic materi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xt, a protease is used to dissolve unwanted protei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dium acetate further precipitates the remaining prote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xt, the sample is centrifuged, and the protein can be remov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A can be precipitated by the addition of cold ethan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is both precipitates the DNA and washes the sal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nally, the solution is centrifuged, and the pellet of DNA is remov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2666880" y="3502080"/>
            <a:ext cx="38862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DNA extracted is often very lo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oo long to be useful in many cas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triction enzymes are used to cut the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ever, it is not a random cut site, rather a very specific seque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many different enzymes (~1000), many with their own unique sequence they attach 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y do not cleave the DNA straight down, instead the cut the bond between adjacent nucleotid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343080" y="380880"/>
            <a:ext cx="88009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uneven cutting creates what is known as “sticky ends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y are “sticky” because they are single strand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NA is normally doubled stranded, and naturally anneals (reforms hydrogen bonds) into doubl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is a random number of cut sites on every strand of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t, in the end, the sample is cut into smaller pie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smaller segments can be run through a g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gel is a semi-solid, porous medium that DNA can move throug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lectrodes are set at either end to make one positive, the other negati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A is slightly negative, and will be attracted to the positive e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maller samples can move through the gel faster, and will make it farther dow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409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20:58:18Z</dcterms:created>
  <dc:creator>ED18</dc:creator>
  <dc:description/>
  <dc:language>en-US</dc:language>
  <cp:lastModifiedBy>ED18</cp:lastModifiedBy>
  <dcterms:modified xsi:type="dcterms:W3CDTF">2012-03-20T17:09:55Z</dcterms:modified>
  <cp:revision>4</cp:revision>
  <dc:subject/>
  <dc:title>Genetic Engineering</dc:title>
</cp:coreProperties>
</file>